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9DEAD-2AC0-41CE-8C85-CC7D8D97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4174E-2B1C-40C3-A630-B9317924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7B460-C629-41B2-86C4-3935B3EA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75E34-FB4F-4399-952A-F067F25A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6885-AFAC-4D7C-A69A-63D94155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AA5A-2101-4159-9825-167818E9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DF8E-AFEF-4221-A676-B96F7C7B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561C-E237-4FCF-970D-D33EDE76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EF34-1DEF-4C0B-AF38-C595BCAB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FC1D-2B04-4B03-83BB-0EB2C1D0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8980-B9C3-48BE-953D-1C23D981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2199F-ED40-41F8-8134-FD032812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B9BC-43DB-4CDD-9656-30A56A8C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F3EC-F1DA-4379-A5CB-67BFC9B2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ACE8-ED99-41A7-AA23-B1BDBD9B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8798-2670-4AC8-8A4D-89CBE096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CC99-75C7-4D64-AC8A-46A3BB55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794D0-F8BC-4007-BE1B-C26F8A79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DAFC3-1DC2-48EF-84CE-C8180565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34115-2DF6-4D54-804B-C35E03F7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8259E-5F58-45A1-8999-DE663F23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67154-0EF3-40F8-8540-18E9A0CE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F1474-C6CF-4689-B812-6E8954FD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9798F-7426-4034-81CB-4EB10E1D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632F-7BBA-4B25-B3C8-453F74F5F2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56D7-201F-4DB0-B9EB-973B7960A1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GIVE US A KING”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The United Kingdom,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Part 2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“The Reign of Solomon”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 Kings 1:1-53; 1 Chron. 29:22-25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ages 107-110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et’s Set The Stage -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is 70 years old – frail and near d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selected Solomon, David’s 1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n, to rule Isra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omon – young and inexperien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announced that Solomon would  succeed 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gave him the blueprints of the te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gave him the materials and organized the people to build the te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 Brief Survey of the 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ife of Solom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bellion of Adonij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to deal with David’s enem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ed God for wis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the te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dicated of the te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it from the Queen of She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marriages with foreig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falling way from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Rebellion of Adonijah</a:t>
            </a:r>
            <a:br>
              <a:rPr sz="39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Kings 1:1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was frail, bedfast and d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eautiful young virgin, Abishag, tried to keep him warm and became his n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nijah plotted to seize the thr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donijah was David’s fourth so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xpected to be the next king – Amnon, Chileab and Absalom were dea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nijah said, “I will be king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e knew Solomon was to be the k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Rebellion of Adonijah</a:t>
            </a:r>
            <a:br>
              <a:rPr sz="39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Kings 1:6-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nijah assembled Joab, Abiathar, his brothers, and some of David’s offic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planned to conduct a special sacri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han, Benaiah, the mighty men and Solomon were not inv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han, the prophet, revealed the plot to Bathshe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han had a plan to counter the rebe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Rebellion of Adonijah</a:t>
            </a:r>
            <a:br>
              <a:rPr sz="39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Kings 1:15-49; 1 Chron. 29:22-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hsheba told David about the plot and that Adonija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han confirmed the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made an oath to Bathshe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ordered Solomon to be anointed king  that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nijah learned of the anointment of Solomon and feared for his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Rebellion of Adonijah</a:t>
            </a:r>
            <a:br>
              <a:rPr sz="39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Kings 1:50-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nijah would not let go of the altar ho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made a deal with Solomon to let him l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bowed himself before Solomon and went h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6:58:45Z</dcterms:created>
  <dc:creator>Frank D Vines</dc:creator>
  <dc:description/>
  <dc:language>en-US</dc:language>
  <cp:lastModifiedBy>Frank D Vines</cp:lastModifiedBy>
  <cp:lastPrinted>2005-04-26T19:53:42Z</cp:lastPrinted>
  <dcterms:modified xsi:type="dcterms:W3CDTF">2005-07-28T20:27:18Z</dcterms:modified>
  <cp:revision>10</cp:revision>
  <dc:subject/>
  <dc:title>GIVE US A KING The United Kingdom, Part 2</dc:title>
</cp:coreProperties>
</file>